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092240" y="685440"/>
            <a:ext cx="46735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8584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8EFB-6FF2-4EF5-ACCA-BCE58C12EBFE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A7878-028F-4D8E-9AD4-1A7B77F921AC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D7D0D-1E6F-4712-A9A1-4267361E0F3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81C94-7495-406B-9AA4-4D7D8E5B5B4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77476-384D-4AC2-88CD-2E2C6D21ABA3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217A2-1F52-4A07-A913-83BB1BA75AE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F484B-AC92-4AB4-A012-0A096E80818B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3FF35-73C2-4C67-A661-ED2E30BD7DD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E0F6B-D8BB-4E58-A1BC-CAD105162020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2C1F7-28D7-4D66-AF13-80279D59924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70370-49FE-456A-A160-5E3D15925104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C4827-D79A-448A-ABD3-D869220DDED6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646A5-7125-4E5C-BFC5-393230A9AE88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3F2A4-D125-497B-80C8-746A3A66BEDF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7FFF2-8E08-43C3-B834-1FF2B66050F6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4308F-3561-44E4-A32C-EF44541B6BF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B3235-31A4-4128-B9C4-80ADB4BC9908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FBB5D-066D-4555-9BEE-857427812E13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A923B-CF16-4054-9078-1032854ECCF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330FD-F249-4BE7-9084-0B393F3077B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EAF8E-074D-4775-A793-160FF1119AEF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4721C-D095-40A7-9C66-45E45FC7537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53265-1C19-4921-B273-41FBA8888ABB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637DE-812C-4063-83FD-7C888272DE25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294CE-9672-4E50-9309-2F7759AB6AE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7C60C-5D6F-4B2A-8CEC-EB8F3D268973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A0FB46-3FAA-4609-8279-0D33EF640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58B4AB-7A1B-43A5-8D21-8CDA717C7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004678-B28B-48A2-B0F9-0E1FDF8B0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6C9626-316A-4D27-B58B-C77906BEC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0DA54D-B659-4AC7-AE7D-5713BF8A4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4666E6-4F4E-4130-8CE8-5793532C5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17481A-968F-4458-82ED-17A0CCEB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7B1E86-F7E8-4858-A312-52B167E1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4022A4-0B7D-45B8-809A-DC24A86F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C80FBE-BC39-45DC-8CA9-6E901D0E2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A9978B-3BDC-4A03-A85E-15F80CAAE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242F8D-EC27-49DB-8717-F0442FB93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640" y="6244920"/>
            <a:ext cx="806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" name="Picture 12" descr=""/>
          <p:cNvPicPr/>
          <p:nvPr/>
        </p:nvPicPr>
        <p:blipFill>
          <a:blip r:embed="rId4"/>
          <a:stretch/>
        </p:blipFill>
        <p:spPr>
          <a:xfrm>
            <a:off x="3419640" y="6237360"/>
            <a:ext cx="216036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http://www.wharton.upenn.edu/research/webi.html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Verdana"/>
              </a:rPr>
              <a:t>Del Modelo de Negocios al Plan de Negocio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Diseñar el modelo de negocios plantea pregunt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66640" y="1752480"/>
            <a:ext cx="82915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spcBef>
                <a:spcPts val="499"/>
              </a:spcBef>
              <a:buSzPct val="15418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Qué ………… producto serán mi fo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uál………….es el dolor de merc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uál …………es la propuesta de val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uál …………será el nicho de merc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Dónde ......lo venderé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Quién ……..lo producirá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Porqué….….nadie lo ha hech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ómo ………lo promoveré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uánto y cuando…está dispuesto a pag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uánto…….necesito de invers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  …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....y erróneamente los ingenieros creemos que tenemos de antemano las respuestas (la verda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SzPct val="10289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l producto y el client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2214720" y="1500120"/>
            <a:ext cx="44290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Preguntas sobre product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SzPct val="12852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Qué quiebre/necesidad/dolor del cliente resuelve mi product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Está claro totalmente para mi y para el cliente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Lo pidió él o se me ocurre que le interesa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Qué valor le agrega el producto al client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Hay otros productos similares o sustituto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Cuáles son los productos competidore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Cuál es la propuesta de valor del product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Preguntas sobre el client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27320" indent="-42732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¿Quiénes son los stakeholder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26200" indent="-3967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Grupos o individuos que razonablemente pueda esperarse que se vean afectados de forma significativa por las actividades, productos y/o servicios de una organiz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Son los interesados directos e indirectos de una empresa que teniendo algún tipo de interés en las operaciones empresarias, le brindan su apoyo y ante los cuales la organización es responsable, tales como los accionistas, proveedores, clientes, etc.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ntonces ¿Quiénes son los cliente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42600" y="16426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Todos quienes reciban valor agregado por el producto (bien o servicio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Clientes directos (que paga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Clientes indirectos (reciben los beneficio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Hasta el cliente de mi cliente de mi cliente………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Si tengo contento al cliente de mi cliente, tengo contento a mi client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¿Son todos los stakeholder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La cadena de valor y la propuesta de val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Picture 3" descr="porter"/>
          <p:cNvPicPr/>
          <p:nvPr/>
        </p:nvPicPr>
        <p:blipFill>
          <a:blip r:embed="rId1"/>
          <a:stretch/>
        </p:blipFill>
        <p:spPr>
          <a:xfrm>
            <a:off x="838080" y="1905120"/>
            <a:ext cx="774396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Valor agregado para el consumidor fin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Picture 3" descr="value"/>
          <p:cNvPicPr/>
          <p:nvPr/>
        </p:nvPicPr>
        <p:blipFill>
          <a:blip r:embed="rId1"/>
          <a:srcRect l="2884" t="14300" r="961" b="3463"/>
          <a:stretch/>
        </p:blipFill>
        <p:spPr>
          <a:xfrm>
            <a:off x="838080" y="2438280"/>
            <a:ext cx="7620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Group 2"/>
          <p:cNvGrpSpPr/>
          <p:nvPr/>
        </p:nvGrpSpPr>
        <p:grpSpPr>
          <a:xfrm>
            <a:off x="227160" y="1523880"/>
            <a:ext cx="8916480" cy="4261320"/>
            <a:chOff x="227160" y="1523880"/>
            <a:chExt cx="8916480" cy="4261320"/>
          </a:xfrm>
        </p:grpSpPr>
        <p:sp>
          <p:nvSpPr>
            <p:cNvPr id="203" name="Line 3"/>
            <p:cNvSpPr/>
            <p:nvPr/>
          </p:nvSpPr>
          <p:spPr>
            <a:xfrm>
              <a:off x="980640" y="3761640"/>
              <a:ext cx="209268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" name="Freeform 4"/>
            <p:cNvSpPr/>
            <p:nvPr/>
          </p:nvSpPr>
          <p:spPr>
            <a:xfrm>
              <a:off x="1391040" y="2524320"/>
              <a:ext cx="1682640" cy="2728800"/>
            </a:xfrm>
            <a:custGeom>
              <a:avLst/>
              <a:gdLst>
                <a:gd name="textAreaLeft" fmla="*/ 0 w 1682640"/>
                <a:gd name="textAreaRight" fmla="*/ 1683000 w 1682640"/>
                <a:gd name="textAreaTop" fmla="*/ 0 h 2728800"/>
                <a:gd name="textAreaBottom" fmla="*/ 2729160 h 2728800"/>
              </a:gdLst>
              <a:ahLst/>
              <a:rect l="textAreaLeft" t="textAreaTop" r="textAreaRight" b="textAreaBottom"/>
              <a:pathLst>
                <a:path w="1054" h="1740">
                  <a:moveTo>
                    <a:pt x="1054" y="0"/>
                  </a:moveTo>
                  <a:lnTo>
                    <a:pt x="0" y="0"/>
                  </a:lnTo>
                  <a:lnTo>
                    <a:pt x="0" y="1740"/>
                  </a:lnTo>
                  <a:lnTo>
                    <a:pt x="1054" y="1740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" name="Freeform 5"/>
            <p:cNvSpPr/>
            <p:nvPr/>
          </p:nvSpPr>
          <p:spPr>
            <a:xfrm>
              <a:off x="3075120" y="3506040"/>
              <a:ext cx="191880" cy="4971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Freeform 6"/>
            <p:cNvSpPr/>
            <p:nvPr/>
          </p:nvSpPr>
          <p:spPr>
            <a:xfrm>
              <a:off x="3075120" y="4958640"/>
              <a:ext cx="191880" cy="4971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Freeform 7"/>
            <p:cNvSpPr/>
            <p:nvPr/>
          </p:nvSpPr>
          <p:spPr>
            <a:xfrm>
              <a:off x="3075120" y="2268720"/>
              <a:ext cx="191880" cy="4971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Rectangle 8"/>
            <p:cNvSpPr/>
            <p:nvPr/>
          </p:nvSpPr>
          <p:spPr>
            <a:xfrm>
              <a:off x="1590480" y="3267720"/>
              <a:ext cx="1254600" cy="103788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Rectangle 9"/>
            <p:cNvSpPr/>
            <p:nvPr/>
          </p:nvSpPr>
          <p:spPr>
            <a:xfrm>
              <a:off x="1590480" y="2003760"/>
              <a:ext cx="1254600" cy="103788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AutoShape 10"/>
            <p:cNvSpPr/>
            <p:nvPr/>
          </p:nvSpPr>
          <p:spPr>
            <a:xfrm>
              <a:off x="3255840" y="206496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AutoShape 11"/>
            <p:cNvSpPr/>
            <p:nvPr/>
          </p:nvSpPr>
          <p:spPr>
            <a:xfrm>
              <a:off x="3255840" y="255132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AutoShape 12"/>
            <p:cNvSpPr/>
            <p:nvPr/>
          </p:nvSpPr>
          <p:spPr>
            <a:xfrm>
              <a:off x="3255840" y="330696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AutoShape 13"/>
            <p:cNvSpPr/>
            <p:nvPr/>
          </p:nvSpPr>
          <p:spPr>
            <a:xfrm>
              <a:off x="3255840" y="380088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Rectangle 14"/>
            <p:cNvSpPr/>
            <p:nvPr/>
          </p:nvSpPr>
          <p:spPr>
            <a:xfrm>
              <a:off x="788040" y="1523880"/>
              <a:ext cx="3335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Fuentes de creación de valor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Rectangle 15"/>
            <p:cNvSpPr/>
            <p:nvPr/>
          </p:nvSpPr>
          <p:spPr>
            <a:xfrm>
              <a:off x="227160" y="3338280"/>
              <a:ext cx="846360" cy="8218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Creación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de Valor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(EVA</a:t>
              </a:r>
              <a:r>
                <a:rPr b="1" lang="es-ES" sz="1200" spc="-1" strike="noStrike" baseline="30000">
                  <a:solidFill>
                    <a:srgbClr val="dddddd"/>
                  </a:solidFill>
                  <a:latin typeface="Arial"/>
                </a:rPr>
                <a:t>®</a:t>
              </a: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Rectangle 16"/>
            <p:cNvSpPr/>
            <p:nvPr/>
          </p:nvSpPr>
          <p:spPr>
            <a:xfrm>
              <a:off x="3351600" y="2160720"/>
              <a:ext cx="1010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Arial"/>
                </a:rPr>
                <a:t>Volumen de Venta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7" name="Rectangle 17"/>
            <p:cNvSpPr/>
            <p:nvPr/>
          </p:nvSpPr>
          <p:spPr>
            <a:xfrm>
              <a:off x="3598560" y="2615400"/>
              <a:ext cx="570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reci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8" name="Rectangle 18"/>
            <p:cNvSpPr/>
            <p:nvPr/>
          </p:nvSpPr>
          <p:spPr>
            <a:xfrm>
              <a:off x="3255480" y="3800880"/>
              <a:ext cx="1107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Administra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Rectangle 19"/>
            <p:cNvSpPr/>
            <p:nvPr/>
          </p:nvSpPr>
          <p:spPr>
            <a:xfrm>
              <a:off x="3288600" y="395316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y Venta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Rectangle 20"/>
            <p:cNvSpPr/>
            <p:nvPr/>
          </p:nvSpPr>
          <p:spPr>
            <a:xfrm>
              <a:off x="3366360" y="3391560"/>
              <a:ext cx="81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Opera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Rectangle 21"/>
            <p:cNvSpPr/>
            <p:nvPr/>
          </p:nvSpPr>
          <p:spPr>
            <a:xfrm>
              <a:off x="4647960" y="2025360"/>
              <a:ext cx="4430160" cy="99108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Rectangle 22"/>
            <p:cNvSpPr/>
            <p:nvPr/>
          </p:nvSpPr>
          <p:spPr>
            <a:xfrm>
              <a:off x="4721400" y="2055240"/>
              <a:ext cx="20786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Acceso a nuevos mercad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Nuevos product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Rectangle 23"/>
            <p:cNvSpPr/>
            <p:nvPr/>
          </p:nvSpPr>
          <p:spPr>
            <a:xfrm>
              <a:off x="6996600" y="2055240"/>
              <a:ext cx="2025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reación de nuevos productos / servici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Rectangle 24"/>
            <p:cNvSpPr/>
            <p:nvPr/>
          </p:nvSpPr>
          <p:spPr>
            <a:xfrm>
              <a:off x="4721040" y="2507040"/>
              <a:ext cx="18925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onstrucción de imagen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uadrar demanda-oferta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Rectangle 25"/>
            <p:cNvSpPr/>
            <p:nvPr/>
          </p:nvSpPr>
          <p:spPr>
            <a:xfrm>
              <a:off x="4726080" y="3297600"/>
              <a:ext cx="243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de costos operac.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es compra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Rectangle 26"/>
            <p:cNvSpPr/>
            <p:nvPr/>
          </p:nvSpPr>
          <p:spPr>
            <a:xfrm>
              <a:off x="4722120" y="3796200"/>
              <a:ext cx="241236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 costos servici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es logísticas eficient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costos de transacción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Rectangle 27"/>
            <p:cNvSpPr/>
            <p:nvPr/>
          </p:nvSpPr>
          <p:spPr>
            <a:xfrm>
              <a:off x="6996600" y="3796200"/>
              <a:ext cx="21470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arketing efectiv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onitoreo de operacion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Rectangle 28"/>
            <p:cNvSpPr/>
            <p:nvPr/>
          </p:nvSpPr>
          <p:spPr>
            <a:xfrm>
              <a:off x="7001280" y="5185800"/>
              <a:ext cx="2134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 de productividad de flota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Rectangle 29"/>
            <p:cNvSpPr/>
            <p:nvPr/>
          </p:nvSpPr>
          <p:spPr>
            <a:xfrm>
              <a:off x="4718160" y="5190480"/>
              <a:ext cx="227160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s de productividad de redes logística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Rectangle 30"/>
            <p:cNvSpPr/>
            <p:nvPr/>
          </p:nvSpPr>
          <p:spPr>
            <a:xfrm>
              <a:off x="6996600" y="3297600"/>
              <a:ext cx="185508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Fuentes de negociación de contrat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1" name="Rectangle 31"/>
            <p:cNvSpPr/>
            <p:nvPr/>
          </p:nvSpPr>
          <p:spPr>
            <a:xfrm>
              <a:off x="4730760" y="4705920"/>
              <a:ext cx="21535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Optimización de Inventari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Time-to-market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Rectangle 32"/>
            <p:cNvSpPr/>
            <p:nvPr/>
          </p:nvSpPr>
          <p:spPr>
            <a:xfrm>
              <a:off x="5380200" y="1531440"/>
              <a:ext cx="2714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Posibilidad de mejorar: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3" name="Rectangle 33"/>
            <p:cNvSpPr/>
            <p:nvPr/>
          </p:nvSpPr>
          <p:spPr>
            <a:xfrm>
              <a:off x="4641480" y="3278880"/>
              <a:ext cx="4430160" cy="112896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4" name="Rectangle 34"/>
            <p:cNvSpPr/>
            <p:nvPr/>
          </p:nvSpPr>
          <p:spPr>
            <a:xfrm>
              <a:off x="4635360" y="4660560"/>
              <a:ext cx="4430160" cy="1078920"/>
            </a:xfrm>
            <a:prstGeom prst="rect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AutoShape 35"/>
            <p:cNvSpPr/>
            <p:nvPr/>
          </p:nvSpPr>
          <p:spPr>
            <a:xfrm>
              <a:off x="3246120" y="475308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6" name="AutoShape 36"/>
            <p:cNvSpPr/>
            <p:nvPr/>
          </p:nvSpPr>
          <p:spPr>
            <a:xfrm>
              <a:off x="3246120" y="524052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7" name="Rectangle 37"/>
            <p:cNvSpPr/>
            <p:nvPr/>
          </p:nvSpPr>
          <p:spPr>
            <a:xfrm>
              <a:off x="3255840" y="4753080"/>
              <a:ext cx="10803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Capital de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Trabaj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8" name="Rectangle 38"/>
            <p:cNvSpPr/>
            <p:nvPr/>
          </p:nvSpPr>
          <p:spPr>
            <a:xfrm>
              <a:off x="3366360" y="5284800"/>
              <a:ext cx="9730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Reducir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Activos Fij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9" name="Rectangle 39"/>
            <p:cNvSpPr/>
            <p:nvPr/>
          </p:nvSpPr>
          <p:spPr>
            <a:xfrm>
              <a:off x="7013880" y="2488320"/>
              <a:ext cx="2043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Segmentación efectiva de consumidor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0" name="Rectangle 40"/>
            <p:cNvSpPr/>
            <p:nvPr/>
          </p:nvSpPr>
          <p:spPr>
            <a:xfrm>
              <a:off x="6990120" y="4699800"/>
              <a:ext cx="21535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Pronósticos más precis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1" name="Rectangle 41"/>
            <p:cNvSpPr/>
            <p:nvPr/>
          </p:nvSpPr>
          <p:spPr>
            <a:xfrm>
              <a:off x="1662480" y="3324240"/>
              <a:ext cx="110772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Reduc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de Costos</a:t>
              </a:r>
              <a:br>
                <a:rPr sz="1000"/>
              </a:b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42" name="Group 42"/>
            <p:cNvGrpSpPr/>
            <p:nvPr/>
          </p:nvGrpSpPr>
          <p:grpSpPr>
            <a:xfrm>
              <a:off x="1809000" y="3768120"/>
              <a:ext cx="949680" cy="446040"/>
              <a:chOff x="1809000" y="3768120"/>
              <a:chExt cx="949680" cy="446040"/>
            </a:xfrm>
          </p:grpSpPr>
          <p:sp>
            <p:nvSpPr>
              <p:cNvPr id="243" name="Line 43"/>
              <p:cNvSpPr/>
              <p:nvPr/>
            </p:nvSpPr>
            <p:spPr>
              <a:xfrm>
                <a:off x="1809000" y="3768120"/>
                <a:ext cx="0" cy="44424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4" name="Line 44"/>
              <p:cNvSpPr/>
              <p:nvPr/>
            </p:nvSpPr>
            <p:spPr>
              <a:xfrm>
                <a:off x="1809000" y="4214160"/>
                <a:ext cx="94968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45" name="Arc 45"/>
            <p:cNvSpPr/>
            <p:nvPr/>
          </p:nvSpPr>
          <p:spPr>
            <a:xfrm>
              <a:off x="1854000" y="3716280"/>
              <a:ext cx="815400" cy="431280"/>
            </a:xfrm>
            <a:custGeom>
              <a:avLst/>
              <a:gdLst>
                <a:gd name="textAreaLeft" fmla="*/ 0 w 815400"/>
                <a:gd name="textAreaRight" fmla="*/ 815760 w 815400"/>
                <a:gd name="textAreaTop" fmla="*/ 0 h 431280"/>
                <a:gd name="textAreaBottom" fmla="*/ 431640 h 431280"/>
              </a:gdLst>
              <a:ahLst/>
              <a:rect l="textAreaLeft" t="textAreaTop" r="textAreaRight" b="textAreaBottom"/>
              <a:pathLst>
                <a:path fill="none" w="22213" h="22289">
                  <a:moveTo>
                    <a:pt x="22213" y="22280"/>
                  </a:moveTo>
                  <a:cubicBezTo>
                    <a:pt x="22008" y="22286"/>
                    <a:pt x="21804" y="22288"/>
                    <a:pt x="21600" y="22289"/>
                  </a:cubicBezTo>
                  <a:cubicBezTo>
                    <a:pt x="9670" y="22289"/>
                    <a:pt x="0" y="12618"/>
                    <a:pt x="0" y="689"/>
                  </a:cubicBezTo>
                  <a:cubicBezTo>
                    <a:pt x="-1" y="459"/>
                    <a:pt x="3" y="229"/>
                    <a:pt x="10" y="-1"/>
                  </a:cubicBezTo>
                </a:path>
                <a:path stroke="0" w="22213" h="22289">
                  <a:moveTo>
                    <a:pt x="22213" y="22280"/>
                  </a:moveTo>
                  <a:cubicBezTo>
                    <a:pt x="22008" y="22286"/>
                    <a:pt x="21804" y="22288"/>
                    <a:pt x="21600" y="22289"/>
                  </a:cubicBezTo>
                  <a:cubicBezTo>
                    <a:pt x="9670" y="22289"/>
                    <a:pt x="0" y="12618"/>
                    <a:pt x="0" y="689"/>
                  </a:cubicBezTo>
                  <a:cubicBezTo>
                    <a:pt x="-1" y="459"/>
                    <a:pt x="3" y="229"/>
                    <a:pt x="10" y="-1"/>
                  </a:cubicBezTo>
                  <a:lnTo>
                    <a:pt x="21600" y="689"/>
                  </a:lnTo>
                  <a:close/>
                </a:path>
              </a:pathLst>
            </a:custGeom>
            <a:noFill/>
            <a:ln w="38160">
              <a:solidFill>
                <a:srgbClr val="dddddd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6" name="Rectangle 46"/>
            <p:cNvSpPr/>
            <p:nvPr/>
          </p:nvSpPr>
          <p:spPr>
            <a:xfrm>
              <a:off x="1590480" y="4693320"/>
              <a:ext cx="1254600" cy="103824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7" name="Rectangle 47"/>
            <p:cNvSpPr/>
            <p:nvPr/>
          </p:nvSpPr>
          <p:spPr>
            <a:xfrm>
              <a:off x="1596960" y="4708800"/>
              <a:ext cx="1243440" cy="44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Optimización  del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uso de activ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8" name="Rectangle 48"/>
            <p:cNvSpPr/>
            <p:nvPr/>
          </p:nvSpPr>
          <p:spPr>
            <a:xfrm>
              <a:off x="1681560" y="5511960"/>
              <a:ext cx="109800" cy="13464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9" name="Rectangle 49"/>
            <p:cNvSpPr/>
            <p:nvPr/>
          </p:nvSpPr>
          <p:spPr>
            <a:xfrm>
              <a:off x="1833480" y="5511960"/>
              <a:ext cx="111240" cy="134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" name="Rectangle 50"/>
            <p:cNvSpPr/>
            <p:nvPr/>
          </p:nvSpPr>
          <p:spPr>
            <a:xfrm>
              <a:off x="1978560" y="5511960"/>
              <a:ext cx="109800" cy="1346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" name="Rectangle 51"/>
            <p:cNvSpPr/>
            <p:nvPr/>
          </p:nvSpPr>
          <p:spPr>
            <a:xfrm>
              <a:off x="1767960" y="5347080"/>
              <a:ext cx="111600" cy="1346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Rectangle 52"/>
            <p:cNvSpPr/>
            <p:nvPr/>
          </p:nvSpPr>
          <p:spPr>
            <a:xfrm>
              <a:off x="1932120" y="5369400"/>
              <a:ext cx="109800" cy="13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Rectangle 53"/>
            <p:cNvSpPr/>
            <p:nvPr/>
          </p:nvSpPr>
          <p:spPr>
            <a:xfrm>
              <a:off x="1866600" y="5204520"/>
              <a:ext cx="110160" cy="134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Rectangle 54"/>
            <p:cNvSpPr/>
            <p:nvPr/>
          </p:nvSpPr>
          <p:spPr>
            <a:xfrm>
              <a:off x="2527920" y="5482080"/>
              <a:ext cx="111600" cy="1350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AutoShape 55"/>
            <p:cNvSpPr/>
            <p:nvPr/>
          </p:nvSpPr>
          <p:spPr>
            <a:xfrm>
              <a:off x="2266200" y="5339520"/>
              <a:ext cx="156240" cy="1756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56" name="Group 56"/>
            <p:cNvGrpSpPr/>
            <p:nvPr/>
          </p:nvGrpSpPr>
          <p:grpSpPr>
            <a:xfrm>
              <a:off x="1801080" y="2477160"/>
              <a:ext cx="951480" cy="446400"/>
              <a:chOff x="1801080" y="2477160"/>
              <a:chExt cx="951480" cy="446400"/>
            </a:xfrm>
          </p:grpSpPr>
          <p:sp>
            <p:nvSpPr>
              <p:cNvPr id="257" name="Line 57"/>
              <p:cNvSpPr/>
              <p:nvPr/>
            </p:nvSpPr>
            <p:spPr>
              <a:xfrm>
                <a:off x="1801080" y="2477160"/>
                <a:ext cx="0" cy="44460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8" name="Line 58"/>
              <p:cNvSpPr/>
              <p:nvPr/>
            </p:nvSpPr>
            <p:spPr>
              <a:xfrm>
                <a:off x="1801080" y="2923560"/>
                <a:ext cx="95148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59" name="Arc 59"/>
            <p:cNvSpPr/>
            <p:nvPr/>
          </p:nvSpPr>
          <p:spPr>
            <a:xfrm flipV="1">
              <a:off x="1833480" y="2525760"/>
              <a:ext cx="816840" cy="343440"/>
            </a:xfrm>
            <a:custGeom>
              <a:avLst/>
              <a:gdLst>
                <a:gd name="textAreaLeft" fmla="*/ 0 w 816840"/>
                <a:gd name="textAreaRight" fmla="*/ 817200 w 816840"/>
                <a:gd name="textAreaTop" fmla="*/ 360 h 343440"/>
                <a:gd name="textAreaBottom" fmla="*/ 344160 h 3434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ddddd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Rectangle 60"/>
            <p:cNvSpPr/>
            <p:nvPr/>
          </p:nvSpPr>
          <p:spPr>
            <a:xfrm>
              <a:off x="1648080" y="2022840"/>
              <a:ext cx="113976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Mejoramient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Ingres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Line 61"/>
            <p:cNvSpPr/>
            <p:nvPr/>
          </p:nvSpPr>
          <p:spPr>
            <a:xfrm>
              <a:off x="4647960" y="2491560"/>
              <a:ext cx="44334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Line 62"/>
            <p:cNvSpPr/>
            <p:nvPr/>
          </p:nvSpPr>
          <p:spPr>
            <a:xfrm>
              <a:off x="4638600" y="3764880"/>
              <a:ext cx="443304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" name="Line 63"/>
            <p:cNvSpPr/>
            <p:nvPr/>
          </p:nvSpPr>
          <p:spPr>
            <a:xfrm>
              <a:off x="4628880" y="5162400"/>
              <a:ext cx="44334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Creación de valor para la empres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Line 65"/>
          <p:cNvSpPr/>
          <p:nvPr/>
        </p:nvSpPr>
        <p:spPr>
          <a:xfrm>
            <a:off x="1371600" y="5257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Line 66"/>
          <p:cNvSpPr/>
          <p:nvPr/>
        </p:nvSpPr>
        <p:spPr>
          <a:xfrm>
            <a:off x="1371600" y="6019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Text Box 67"/>
          <p:cNvSpPr/>
          <p:nvPr/>
        </p:nvSpPr>
        <p:spPr>
          <a:xfrm>
            <a:off x="1719360" y="5899320"/>
            <a:ext cx="536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umento de valor de las acciones, del capital humano y/o del activo nomin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Rectangle 68"/>
          <p:cNvSpPr/>
          <p:nvPr/>
        </p:nvSpPr>
        <p:spPr>
          <a:xfrm>
            <a:off x="7086600" y="6019920"/>
            <a:ext cx="76320" cy="759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69"/>
          <p:cNvSpPr/>
          <p:nvPr/>
        </p:nvSpPr>
        <p:spPr>
          <a:xfrm>
            <a:off x="1752480" y="5867280"/>
            <a:ext cx="5410440" cy="30492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Cadena de valor </a:t>
            </a: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(activ. Primaria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1428840" y="1560600"/>
            <a:ext cx="601668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Matriz de valor agregad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" name="Picture 2" descr=""/>
          <p:cNvPicPr/>
          <p:nvPr/>
        </p:nvPicPr>
        <p:blipFill>
          <a:blip r:embed="rId1"/>
          <a:stretch/>
        </p:blipFill>
        <p:spPr>
          <a:xfrm>
            <a:off x="1143000" y="1571760"/>
            <a:ext cx="679752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Roadmap para evaluar un negoci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3 Marcador de contenido" descr=""/>
          <p:cNvPicPr/>
          <p:nvPr/>
        </p:nvPicPr>
        <p:blipFill>
          <a:blip r:embed="rId1"/>
          <a:stretch/>
        </p:blipFill>
        <p:spPr>
          <a:xfrm>
            <a:off x="554040" y="1852560"/>
            <a:ext cx="803592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71320" y="642600"/>
            <a:ext cx="8001000" cy="5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Valor agregado por actividad/clien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1347840" y="1500120"/>
            <a:ext cx="6097680" cy="45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499680"/>
            <a:ext cx="8001000" cy="5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Ej: Matriz de agregación de val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3 Marcador de contenido" descr=""/>
          <p:cNvPicPr/>
          <p:nvPr/>
        </p:nvPicPr>
        <p:blipFill>
          <a:blip r:embed="rId1"/>
          <a:stretch/>
        </p:blipFill>
        <p:spPr>
          <a:xfrm>
            <a:off x="1471680" y="1762200"/>
            <a:ext cx="6191280" cy="4248000"/>
          </a:xfrm>
          <a:prstGeom prst="rect">
            <a:avLst/>
          </a:prstGeom>
          <a:ln w="0">
            <a:noFill/>
          </a:ln>
        </p:spPr>
      </p:pic>
      <p:sp>
        <p:nvSpPr>
          <p:cNvPr id="278" name="4 CuadroTexto"/>
          <p:cNvSpPr/>
          <p:nvPr/>
        </p:nvSpPr>
        <p:spPr>
          <a:xfrm rot="16200000">
            <a:off x="555480" y="3500280"/>
            <a:ext cx="15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Stakehold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Cadena de valor negocio postal certificad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1982880" y="1428840"/>
            <a:ext cx="658980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Cadena de valor negocio impresión variab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2238480" y="1752480"/>
            <a:ext cx="46576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Propuesta de valo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99680" y="1714680"/>
            <a:ext cx="80010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22640" indent="-422640">
              <a:spcBef>
                <a:spcPts val="499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Valor= Beneficios-Costos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(incluye riesg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Es un análisis y revisión cuantitativos de los beneficios, costos y valor que una organización puede darle a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el clien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soci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emplead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aliados estratégic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provee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otr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Otro ejemplo de la matriz agregación de valor en la cadena de los stakehold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6" name="Picture 4" descr=""/>
          <p:cNvPicPr/>
          <p:nvPr/>
        </p:nvPicPr>
        <p:blipFill>
          <a:blip r:embed="rId1"/>
          <a:stretch/>
        </p:blipFill>
        <p:spPr>
          <a:xfrm>
            <a:off x="1366920" y="1924200"/>
            <a:ext cx="6400800" cy="39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¿</a:t>
            </a: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Dónde situar los modelos de negocios en la arquitectura de negocio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428840" y="1714680"/>
            <a:ext cx="6565680" cy="47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¿Qué es el modelo de negocios 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lnSpc>
                <a:spcPct val="90000"/>
              </a:lnSpc>
              <a:spcBef>
                <a:spcPts val="649"/>
              </a:spcBef>
              <a:buSzPct val="1187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Un modelo de negocios es la arquitectura de la configuración de componentes de las transacciones diseñadas para explotar oportunidades de negocios (*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187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e hace cargo de la oportunid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187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Indica como y porqué las transacciones con clientes (y los beneficios) ocurrirá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187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scribe la interacción de la organización con otras entidades del merca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*)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Raffi Amit, co-director of the Wharton</a:t>
            </a:r>
            <a:r>
              <a:rPr b="0" lang="es-ES" sz="18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-Business Initiative (WeBI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¿Qué es el modelo de negocios?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con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la estrategia central de una organización que define su lugar en el merc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escribe la oportunidad y como la organización generará los benefi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sponde a los “porqué” la organización exis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Oval 4"/>
          <p:cNvSpPr/>
          <p:nvPr/>
        </p:nvSpPr>
        <p:spPr>
          <a:xfrm>
            <a:off x="3041640" y="297180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Line 5"/>
          <p:cNvSpPr/>
          <p:nvPr/>
        </p:nvSpPr>
        <p:spPr>
          <a:xfrm>
            <a:off x="1746360" y="2438280"/>
            <a:ext cx="1600200" cy="838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Line 6"/>
          <p:cNvSpPr/>
          <p:nvPr/>
        </p:nvSpPr>
        <p:spPr>
          <a:xfrm flipV="1">
            <a:off x="1822320" y="434304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Line 7"/>
          <p:cNvSpPr/>
          <p:nvPr/>
        </p:nvSpPr>
        <p:spPr>
          <a:xfrm flipH="1">
            <a:off x="4946760" y="281952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Line 8"/>
          <p:cNvSpPr/>
          <p:nvPr/>
        </p:nvSpPr>
        <p:spPr>
          <a:xfrm flipH="1" flipV="1">
            <a:off x="5022360" y="419112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3489120" y="335268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6327360" y="2489040"/>
            <a:ext cx="16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6329880" y="457200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34 Elipse"/>
          <p:cNvSpPr/>
          <p:nvPr/>
        </p:nvSpPr>
        <p:spPr>
          <a:xfrm>
            <a:off x="4140360" y="1484280"/>
            <a:ext cx="3600360" cy="4753080"/>
          </a:xfrm>
          <a:prstGeom prst="ellipse">
            <a:avLst/>
          </a:prstGeom>
          <a:solidFill>
            <a:srgbClr val="edfb69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Oval 4"/>
          <p:cNvSpPr/>
          <p:nvPr/>
        </p:nvSpPr>
        <p:spPr>
          <a:xfrm>
            <a:off x="1828800" y="289548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Line 5"/>
          <p:cNvSpPr/>
          <p:nvPr/>
        </p:nvSpPr>
        <p:spPr>
          <a:xfrm>
            <a:off x="533520" y="2362320"/>
            <a:ext cx="1600200" cy="83808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Line 6"/>
          <p:cNvSpPr/>
          <p:nvPr/>
        </p:nvSpPr>
        <p:spPr>
          <a:xfrm flipV="1">
            <a:off x="609480" y="426672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Line 7"/>
          <p:cNvSpPr/>
          <p:nvPr/>
        </p:nvSpPr>
        <p:spPr>
          <a:xfrm flipH="1">
            <a:off x="3733920" y="274320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Line 8"/>
          <p:cNvSpPr/>
          <p:nvPr/>
        </p:nvSpPr>
        <p:spPr>
          <a:xfrm flipH="1" flipV="1">
            <a:off x="3809520" y="411480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2276280" y="327672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5049720" y="2362320"/>
            <a:ext cx="1741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5117040" y="449568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laz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Line 14"/>
          <p:cNvSpPr/>
          <p:nvPr/>
        </p:nvSpPr>
        <p:spPr>
          <a:xfrm>
            <a:off x="6781680" y="25909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7356960" y="23940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Line 16"/>
          <p:cNvSpPr/>
          <p:nvPr/>
        </p:nvSpPr>
        <p:spPr>
          <a:xfrm flipV="1">
            <a:off x="784872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7457400" y="1828800"/>
            <a:ext cx="123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tecologí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Line 18"/>
          <p:cNvSpPr/>
          <p:nvPr/>
        </p:nvSpPr>
        <p:spPr>
          <a:xfrm flipV="1">
            <a:off x="5715000" y="20574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 Box 19"/>
          <p:cNvSpPr/>
          <p:nvPr/>
        </p:nvSpPr>
        <p:spPr>
          <a:xfrm>
            <a:off x="4038480" y="1676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ernativos/sustitu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Line 20"/>
          <p:cNvSpPr/>
          <p:nvPr/>
        </p:nvSpPr>
        <p:spPr>
          <a:xfrm flipV="1">
            <a:off x="7848720" y="213372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21"/>
          <p:cNvSpPr/>
          <p:nvPr/>
        </p:nvSpPr>
        <p:spPr>
          <a:xfrm>
            <a:off x="7506720" y="312408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 Box 22"/>
          <p:cNvSpPr/>
          <p:nvPr/>
        </p:nvSpPr>
        <p:spPr>
          <a:xfrm>
            <a:off x="5304600" y="380988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Line 23"/>
          <p:cNvSpPr/>
          <p:nvPr/>
        </p:nvSpPr>
        <p:spPr>
          <a:xfrm flipV="1">
            <a:off x="5715000" y="41148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24"/>
          <p:cNvSpPr/>
          <p:nvPr/>
        </p:nvSpPr>
        <p:spPr>
          <a:xfrm>
            <a:off x="4724280" y="3124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mpetido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25"/>
          <p:cNvSpPr/>
          <p:nvPr/>
        </p:nvSpPr>
        <p:spPr>
          <a:xfrm flipV="1">
            <a:off x="5715000" y="34290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Line 26"/>
          <p:cNvSpPr/>
          <p:nvPr/>
        </p:nvSpPr>
        <p:spPr>
          <a:xfrm flipV="1">
            <a:off x="571500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Line 27"/>
          <p:cNvSpPr/>
          <p:nvPr/>
        </p:nvSpPr>
        <p:spPr>
          <a:xfrm flipV="1">
            <a:off x="5715000" y="4800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 Box 28"/>
          <p:cNvSpPr/>
          <p:nvPr/>
        </p:nvSpPr>
        <p:spPr>
          <a:xfrm>
            <a:off x="5388840" y="510552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irecto (pag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Line 29"/>
          <p:cNvSpPr/>
          <p:nvPr/>
        </p:nvSpPr>
        <p:spPr>
          <a:xfrm flipV="1">
            <a:off x="5715000" y="541008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Text Box 30"/>
          <p:cNvSpPr/>
          <p:nvPr/>
        </p:nvSpPr>
        <p:spPr>
          <a:xfrm>
            <a:off x="4226760" y="5791320"/>
            <a:ext cx="37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indirecto (recibe los beneficio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Line 31"/>
          <p:cNvSpPr/>
          <p:nvPr/>
        </p:nvSpPr>
        <p:spPr>
          <a:xfrm>
            <a:off x="4343400" y="2590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Text Box 32"/>
          <p:cNvSpPr/>
          <p:nvPr/>
        </p:nvSpPr>
        <p:spPr>
          <a:xfrm>
            <a:off x="3324240" y="2438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36 CuadroTexto"/>
          <p:cNvSpPr/>
          <p:nvPr/>
        </p:nvSpPr>
        <p:spPr>
          <a:xfrm>
            <a:off x="6543720" y="3500280"/>
            <a:ext cx="28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Verdana"/>
              </a:rPr>
              <a:t>Propuesta de val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Oval 33"/>
          <p:cNvSpPr/>
          <p:nvPr/>
        </p:nvSpPr>
        <p:spPr>
          <a:xfrm>
            <a:off x="0" y="1197000"/>
            <a:ext cx="8964720" cy="5111640"/>
          </a:xfrm>
          <a:prstGeom prst="ellipse">
            <a:avLst/>
          </a:prstGeom>
          <a:solidFill>
            <a:srgbClr val="edfb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Oval 4"/>
          <p:cNvSpPr/>
          <p:nvPr/>
        </p:nvSpPr>
        <p:spPr>
          <a:xfrm>
            <a:off x="1828800" y="289548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Line 5"/>
          <p:cNvSpPr/>
          <p:nvPr/>
        </p:nvSpPr>
        <p:spPr>
          <a:xfrm>
            <a:off x="533520" y="2362320"/>
            <a:ext cx="1600200" cy="83808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Line 6"/>
          <p:cNvSpPr/>
          <p:nvPr/>
        </p:nvSpPr>
        <p:spPr>
          <a:xfrm flipV="1">
            <a:off x="609480" y="426672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Line 7"/>
          <p:cNvSpPr/>
          <p:nvPr/>
        </p:nvSpPr>
        <p:spPr>
          <a:xfrm flipH="1">
            <a:off x="3733920" y="274320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Line 8"/>
          <p:cNvSpPr/>
          <p:nvPr/>
        </p:nvSpPr>
        <p:spPr>
          <a:xfrm flipH="1" flipV="1">
            <a:off x="3809520" y="411480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2276280" y="327672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5049720" y="2362320"/>
            <a:ext cx="1741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5117040" y="449568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laz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Line 14"/>
          <p:cNvSpPr/>
          <p:nvPr/>
        </p:nvSpPr>
        <p:spPr>
          <a:xfrm>
            <a:off x="6781680" y="25909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7356960" y="23940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Line 16"/>
          <p:cNvSpPr/>
          <p:nvPr/>
        </p:nvSpPr>
        <p:spPr>
          <a:xfrm flipV="1">
            <a:off x="784872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7457400" y="182880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Line 18"/>
          <p:cNvSpPr/>
          <p:nvPr/>
        </p:nvSpPr>
        <p:spPr>
          <a:xfrm flipV="1">
            <a:off x="5715000" y="20574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Text Box 19"/>
          <p:cNvSpPr/>
          <p:nvPr/>
        </p:nvSpPr>
        <p:spPr>
          <a:xfrm>
            <a:off x="4038480" y="1676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ernativos/sustitu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Line 20"/>
          <p:cNvSpPr/>
          <p:nvPr/>
        </p:nvSpPr>
        <p:spPr>
          <a:xfrm flipV="1">
            <a:off x="7848720" y="213372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21"/>
          <p:cNvSpPr/>
          <p:nvPr/>
        </p:nvSpPr>
        <p:spPr>
          <a:xfrm>
            <a:off x="7506720" y="312408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Text Box 22"/>
          <p:cNvSpPr/>
          <p:nvPr/>
        </p:nvSpPr>
        <p:spPr>
          <a:xfrm>
            <a:off x="5304600" y="380988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Line 23"/>
          <p:cNvSpPr/>
          <p:nvPr/>
        </p:nvSpPr>
        <p:spPr>
          <a:xfrm flipV="1">
            <a:off x="5715000" y="41148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Text Box 24"/>
          <p:cNvSpPr/>
          <p:nvPr/>
        </p:nvSpPr>
        <p:spPr>
          <a:xfrm>
            <a:off x="4724280" y="3124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mpetido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Line 25"/>
          <p:cNvSpPr/>
          <p:nvPr/>
        </p:nvSpPr>
        <p:spPr>
          <a:xfrm flipV="1">
            <a:off x="5715000" y="34290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Line 26"/>
          <p:cNvSpPr/>
          <p:nvPr/>
        </p:nvSpPr>
        <p:spPr>
          <a:xfrm flipV="1">
            <a:off x="571500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Line 27"/>
          <p:cNvSpPr/>
          <p:nvPr/>
        </p:nvSpPr>
        <p:spPr>
          <a:xfrm flipV="1">
            <a:off x="5715000" y="4800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Text Box 28"/>
          <p:cNvSpPr/>
          <p:nvPr/>
        </p:nvSpPr>
        <p:spPr>
          <a:xfrm>
            <a:off x="5388840" y="510552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irecto (pag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Line 29"/>
          <p:cNvSpPr/>
          <p:nvPr/>
        </p:nvSpPr>
        <p:spPr>
          <a:xfrm flipV="1">
            <a:off x="5715000" y="541008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Text Box 30"/>
          <p:cNvSpPr/>
          <p:nvPr/>
        </p:nvSpPr>
        <p:spPr>
          <a:xfrm>
            <a:off x="4226760" y="5791320"/>
            <a:ext cx="37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indirecto (recibe los beneficio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Line 31"/>
          <p:cNvSpPr/>
          <p:nvPr/>
        </p:nvSpPr>
        <p:spPr>
          <a:xfrm>
            <a:off x="4343400" y="259092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Text Box 32"/>
          <p:cNvSpPr/>
          <p:nvPr/>
        </p:nvSpPr>
        <p:spPr>
          <a:xfrm>
            <a:off x="3324240" y="2438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 Box 34"/>
          <p:cNvSpPr/>
          <p:nvPr/>
        </p:nvSpPr>
        <p:spPr>
          <a:xfrm rot="20437200">
            <a:off x="7237440" y="3859920"/>
            <a:ext cx="162072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ENTOR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Paí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Economí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Cultu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67420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14:44:41Z</dcterms:created>
  <dc:creator>toshiba</dc:creator>
  <dc:description/>
  <dc:language>en-US</dc:language>
  <cp:lastModifiedBy>dii</cp:lastModifiedBy>
  <dcterms:modified xsi:type="dcterms:W3CDTF">2010-08-20T13:39:50Z</dcterms:modified>
  <cp:revision>30</cp:revision>
  <dc:subject/>
  <dc:title>Modelo de Negocios</dc:title>
</cp:coreProperties>
</file>